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0784-864B-4C5F-9731-8605373A9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C0DC-CA68-4379-94E5-7AA5B109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4F91-EF39-47B2-B1FB-70F0F9C13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1666-9573-4E23-BA7F-3895339DE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4666-118C-480C-9416-96DCEA3B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9DF6-F564-4066-8A6E-178050DF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EEEE-8464-49D8-A896-0BB2A6E7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C27A-A0CC-4E36-961C-562751AA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E457-D5E6-4450-9922-53251314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15C9-FBA1-4195-A0BC-1D9F97F5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B7B9-5301-4E48-8304-18CFC679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825C-88D1-45D0-A7EB-9B280233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50000">
              <a:srgbClr val="ff0000"/>
            </a:gs>
            <a:gs pos="100000">
              <a:srgbClr val="ff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37EC-E90C-4C9F-B9AD-C5C1740B6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50000">
              <a:srgbClr val="ff0000"/>
            </a:gs>
            <a:gs pos="100000">
              <a:srgbClr val="ff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28800" y="152280"/>
            <a:ext cx="5334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prstDash val="dashDot"/>
                  <a:miter/>
                </a:ln>
                <a:solidFill>
                  <a:srgbClr val="ffffff"/>
                </a:solidFill>
                <a:latin typeface="Script MT Bold"/>
              </a:rPr>
              <a:t>- Romance -</a:t>
            </a:r>
            <a:endParaRPr b="0" lang="en-US" sz="1800" spc="1" strike="noStrike">
              <a:ln w="9360">
                <a:solidFill>
                  <a:srgbClr val="ffffff"/>
                </a:solidFill>
                <a:prstDash val="dashDot"/>
                <a:miter/>
              </a:ln>
              <a:solidFill>
                <a:srgbClr val="ffffff"/>
              </a:solidFill>
              <a:latin typeface="Script MT Bold"/>
              <a:ea typeface="Script MT Bold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781520" y="3144960"/>
            <a:ext cx="4362480" cy="3713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010280" y="274320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nnifer Simm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50000">
              <a:srgbClr val="ff0000"/>
            </a:gs>
            <a:gs pos="100000">
              <a:srgbClr val="ff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cript MT Bold"/>
              </a:rPr>
              <a:t>The Meaning Of Roma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3337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50000">
              <a:srgbClr val="ff0000"/>
            </a:gs>
            <a:gs pos="100000">
              <a:srgbClr val="ff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Script MT Bold"/>
              </a:rPr>
              <a:t>Movi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ta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95480" y="1447920"/>
            <a:ext cx="5639040" cy="4228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327672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50000">
              <a:srgbClr val="ff0000"/>
            </a:gs>
            <a:gs pos="100000">
              <a:srgbClr val="ff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Script MT Bold"/>
              </a:rPr>
              <a:t>Stori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carlet L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6400800" cy="3591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5791320" y="4495680"/>
            <a:ext cx="3105000" cy="20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Pristina"/>
              </a:rPr>
              <a:t>"A"</a:t>
            </a:r>
            <a:endParaRPr b="0" lang="en-US" sz="6000" spc="1" strike="noStrike">
              <a:ln w="381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Pristina"/>
              <a:ea typeface="Pristin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464160" y="0"/>
            <a:ext cx="2679840" cy="3809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2952720"/>
            <a:ext cx="26668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50000">
              <a:srgbClr val="ff0000"/>
            </a:gs>
            <a:gs pos="100000">
              <a:srgbClr val="ff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cript MT Bold"/>
              </a:rPr>
              <a:t>Modern Romance No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6400800" cy="4238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343400" y="1371600"/>
            <a:ext cx="480060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3:59:19Z</dcterms:created>
  <dc:creator>Board of Education</dc:creator>
  <dc:description/>
  <dc:language>en-US</dc:language>
  <cp:lastModifiedBy>Board of Education</cp:lastModifiedBy>
  <dcterms:modified xsi:type="dcterms:W3CDTF">2011-03-16T14:29:34Z</dcterms:modified>
  <cp:revision>3</cp:revision>
  <dc:subject/>
  <dc:title>Slide 1</dc:title>
</cp:coreProperties>
</file>